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AAE-90CD-44CD-AEDC-E42D5654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70E-886B-4CD7-9D77-2D9FD332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553-C9DD-4ABB-BFB4-0E67579B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F2F-E355-41A0-BF88-23EF3B32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CC0-B91A-4458-A5CB-5032254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909-C2FF-4E91-AEB7-5AEF1D97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312-0EED-4A5E-A796-D9E625F0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32C-3E43-4BDD-8A54-92B14A63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30A-0F2C-4E2A-8DAB-B2B3AB1D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D41-7D52-4BEB-8EDC-F2271D5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1E3-58F3-4B5D-91F9-56BD9322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49D-447E-42D3-8F62-8911D00A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04BF-658B-41A3-AAA6-657A09402D9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а хемиј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ставна јединица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четрнаеста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8513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укле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609480" y="1828800"/>
          <a:ext cx="769644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9644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6"/>
          <p:cNvGraphicFramePr/>
          <p:nvPr/>
        </p:nvGraphicFramePr>
        <p:xfrm>
          <a:off x="304920" y="1676520"/>
          <a:ext cx="8229600" cy="26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229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7"/>
          <p:cNvSpPr/>
          <p:nvPr/>
        </p:nvSpPr>
        <p:spPr>
          <a:xfrm>
            <a:off x="228600" y="4648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8-хидроксихинолин (оксин) важан је реагенс у комплексометрији, са многим металима гради слабо растворне хелатне комплексе, погодне за гравиметријско одређивањ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993240" y="9144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кс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>
            <a:off x="1295280" y="12952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ривати хинолина (метилхинолини, хинолинкарбонске кисели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93080" y="350532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ал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640840" y="342900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леп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71600" y="575316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алд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564880" y="57913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цинхон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2057400" y="1752480"/>
          <a:ext cx="513072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13072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хинол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685800" y="2257560"/>
          <a:ext cx="403848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57560"/>
                    <a:ext cx="403848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5943600" y="2438280"/>
          <a:ext cx="1609560" cy="19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438280"/>
                    <a:ext cx="16095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7"/>
          <p:cNvSpPr/>
          <p:nvPr/>
        </p:nvSpPr>
        <p:spPr>
          <a:xfrm>
            <a:off x="1449360" y="46483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ин (алкало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716080" y="457200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5-NOK (уроантисепт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есточлани системи са једним кисео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295280" y="1806480"/>
          <a:ext cx="601992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06480"/>
                    <a:ext cx="601992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1067760" y="3124080"/>
            <a:ext cx="17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Н ил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659760" y="31240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4Н ил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6960" y="31240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тетрахидропи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144080" y="579132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 ил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250320" y="57150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лиј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атј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720240" y="57531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4 ил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пир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еточлани хетероцикли са два хетеро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295280" y="1295280"/>
          <a:ext cx="617724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177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1137960" y="2666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азол                имида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796640" y="2666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ксазол               окса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195720" y="43434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тиазол                  тиа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215440" y="49528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активност према електрофил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137960" y="5791320"/>
            <a:ext cx="71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мид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с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ти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пир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изокс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изотиаз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азол или 1,2-д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914400" y="1219320"/>
          <a:ext cx="71629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1629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5"/>
          <p:cNvSpPr/>
          <p:nvPr/>
        </p:nvSpPr>
        <p:spPr>
          <a:xfrm>
            <a:off x="1526400" y="38098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аутомерни обли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990720" y="4572000"/>
          <a:ext cx="4190760" cy="13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572000"/>
                    <a:ext cx="41907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1203480" y="609588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Н                       3Н                         4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62120" y="3505320"/>
            <a:ext cx="46479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449360" y="2057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ентан-2,4-ди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5792400" y="4419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3,5-диметилпира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азол или 1,2-д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1371600" y="1905120"/>
          <a:ext cx="1089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1089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5105520" y="1987560"/>
          <a:ext cx="304776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87560"/>
                    <a:ext cx="304776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AutoShape 10"/>
          <p:cNvSpPr/>
          <p:nvPr/>
        </p:nvSpPr>
        <p:spPr>
          <a:xfrm rot="20291400">
            <a:off x="990720" y="297144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 rot="12775800">
            <a:off x="243792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81000" y="32767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иролск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аз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292120" y="3048120"/>
            <a:ext cx="18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иридинск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аз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4800600" y="29718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иролск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аз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+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6635520" y="2971800"/>
            <a:ext cx="181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иридинск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аз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+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8" descr=""/>
          <p:cNvPicPr/>
          <p:nvPr/>
        </p:nvPicPr>
        <p:blipFill>
          <a:blip r:embed="rId5"/>
          <a:stretch/>
        </p:blipFill>
        <p:spPr>
          <a:xfrm>
            <a:off x="1219320" y="3886200"/>
            <a:ext cx="2895480" cy="2370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1"/>
          <p:cNvSpPr/>
          <p:nvPr/>
        </p:nvSpPr>
        <p:spPr>
          <a:xfrm>
            <a:off x="1219320" y="48769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175248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259092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209680" y="54100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3276720" y="48769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зонантне структуре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533520" y="2590920"/>
          <a:ext cx="775944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775944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6"/>
          <p:cNvSpPr/>
          <p:nvPr/>
        </p:nvSpPr>
        <p:spPr>
          <a:xfrm rot="2538000">
            <a:off x="6629400" y="21337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568040" y="1447920"/>
            <a:ext cx="34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вац напада електрофи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1676520" y="1295280"/>
          <a:ext cx="281916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28191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5"/>
          <p:cNvGraphicFramePr/>
          <p:nvPr/>
        </p:nvGraphicFramePr>
        <p:xfrm>
          <a:off x="1676520" y="3309840"/>
          <a:ext cx="297180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09840"/>
                    <a:ext cx="2971800" cy="16480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3" name="Object 7"/>
          <p:cNvGraphicFramePr/>
          <p:nvPr/>
        </p:nvGraphicFramePr>
        <p:xfrm>
          <a:off x="1600200" y="5105520"/>
          <a:ext cx="594360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105520"/>
                    <a:ext cx="59436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9"/>
          <p:cNvSpPr/>
          <p:nvPr/>
        </p:nvSpPr>
        <p:spPr>
          <a:xfrm>
            <a:off x="306000" y="1905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06000" y="38862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06000" y="54864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2209680" y="1981080"/>
            <a:ext cx="38124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876920" y="54100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ензопири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69200" y="3886200"/>
            <a:ext cx="18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енз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о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659760" y="388620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енз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хино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174000" y="3886200"/>
            <a:ext cx="23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енз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олизинијум-катј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10"/>
          <p:cNvGraphicFramePr/>
          <p:nvPr/>
        </p:nvGraphicFramePr>
        <p:xfrm>
          <a:off x="838080" y="2438280"/>
          <a:ext cx="739152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73915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тровање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914400" y="1676520"/>
          <a:ext cx="72388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2388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утомерија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5029200" y="1222200"/>
          <a:ext cx="3505320" cy="12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222200"/>
                    <a:ext cx="3505320" cy="12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8"/>
          <p:cNvGraphicFramePr/>
          <p:nvPr/>
        </p:nvGraphicFramePr>
        <p:xfrm>
          <a:off x="152280" y="1600200"/>
          <a:ext cx="6248520" cy="46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600200"/>
                    <a:ext cx="624852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9"/>
          <p:cNvSpPr/>
          <p:nvPr/>
        </p:nvSpPr>
        <p:spPr>
          <a:xfrm>
            <a:off x="2210040" y="4876920"/>
            <a:ext cx="64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дентичност положаја 3 и 5 доказана је тако што ј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лиминацијом фенил-групе из 1-фенил-3-метилпиразо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 1-фенил-5-метилпиразола добијен исти метилпираз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 rot="2226600">
            <a:off x="3781080" y="2840040"/>
            <a:ext cx="398520" cy="9684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 rot="2226600">
            <a:off x="5790960" y="2819520"/>
            <a:ext cx="398520" cy="9684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5486400" y="1219320"/>
            <a:ext cx="304920" cy="3045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5029200" y="1523880"/>
            <a:ext cx="304920" cy="3049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7238880" y="1523880"/>
            <a:ext cx="304920" cy="3049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7696080" y="1219320"/>
            <a:ext cx="304920" cy="3045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талитичка редукција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1676520" y="2286000"/>
          <a:ext cx="579096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579096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3730680" y="41911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азолин                 пиразол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367640" y="502920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иразол је врло отпоран према оксидационим средстви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ли подлеже каталитичкој редукциј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мидазол или 1,3-д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685800" y="1600200"/>
          <a:ext cx="512136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51213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1295280" y="4495680"/>
          <a:ext cx="4238640" cy="18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95680"/>
                    <a:ext cx="423864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Oval 8"/>
          <p:cNvSpPr/>
          <p:nvPr/>
        </p:nvSpPr>
        <p:spPr>
          <a:xfrm rot="18656400">
            <a:off x="1407240" y="4340520"/>
            <a:ext cx="600120" cy="106524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9"/>
          <p:cNvSpPr/>
          <p:nvPr/>
        </p:nvSpPr>
        <p:spPr>
          <a:xfrm rot="18656400">
            <a:off x="4157640" y="4281120"/>
            <a:ext cx="617400" cy="106524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зонантне структуре имид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838080" y="1905120"/>
          <a:ext cx="7353360" cy="30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353360" cy="30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6"/>
          <p:cNvSpPr/>
          <p:nvPr/>
        </p:nvSpPr>
        <p:spPr>
          <a:xfrm>
            <a:off x="1672560" y="4648320"/>
            <a:ext cx="34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вац напада електрофи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 rot="18881400">
            <a:off x="2933640" y="361908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имидаз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1828800" y="1541520"/>
          <a:ext cx="541008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41520"/>
                    <a:ext cx="541008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1905120" y="3200400"/>
          <a:ext cx="304776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200400"/>
                    <a:ext cx="304776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9"/>
          <p:cNvGraphicFramePr/>
          <p:nvPr/>
        </p:nvGraphicFramePr>
        <p:xfrm>
          <a:off x="1828800" y="5257800"/>
          <a:ext cx="5867280" cy="13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257800"/>
                    <a:ext cx="5867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2"/>
          <p:cNvSpPr/>
          <p:nvPr/>
        </p:nvSpPr>
        <p:spPr>
          <a:xfrm>
            <a:off x="306000" y="19810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06000" y="40384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382320" y="57913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2209680" y="1523880"/>
            <a:ext cx="38124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6248520" y="2209680"/>
            <a:ext cx="30456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4343400" y="4114800"/>
            <a:ext cx="380880" cy="3808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7162920" y="5791320"/>
            <a:ext cx="30456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1676520" y="5029200"/>
            <a:ext cx="6248160" cy="16765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мидазолов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1371600" y="2057400"/>
          <a:ext cx="60199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0199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5"/>
          <p:cNvSpPr/>
          <p:nvPr/>
        </p:nvSpPr>
        <p:spPr>
          <a:xfrm>
            <a:off x="1413360" y="422928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стидин                                                     хиста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Skraup-ова синтеза хин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371600" y="1117440"/>
          <a:ext cx="6553080" cy="558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17440"/>
                    <a:ext cx="65530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Skraup-ова синтеза хин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1295280" y="1828800"/>
          <a:ext cx="650556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50556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нска структура хин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523880" y="2286000"/>
          <a:ext cx="6400800" cy="28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0"/>
                    <a:ext cx="64008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Oval 6"/>
          <p:cNvSpPr/>
          <p:nvPr/>
        </p:nvSpPr>
        <p:spPr>
          <a:xfrm>
            <a:off x="1447920" y="4038480"/>
            <a:ext cx="1752480" cy="1143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ксидација хин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838080" y="1905120"/>
          <a:ext cx="7391520" cy="36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391520" cy="36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5"/>
          <p:cNvSpPr/>
          <p:nvPr/>
        </p:nvSpPr>
        <p:spPr>
          <a:xfrm>
            <a:off x="3887640" y="57150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олинс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462000" y="567684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с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479280" y="3352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-хинол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Редукција хино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838080" y="2286000"/>
          <a:ext cx="7623360" cy="16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62336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5"/>
          <p:cNvSpPr/>
          <p:nvPr/>
        </p:nvSpPr>
        <p:spPr>
          <a:xfrm>
            <a:off x="609840" y="393876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,3,4-тетрахидрохино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555240" y="38862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екахидрохино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5"/>
          <p:cNvGraphicFramePr/>
          <p:nvPr/>
        </p:nvGraphicFramePr>
        <p:xfrm>
          <a:off x="457200" y="2065320"/>
          <a:ext cx="822960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65320"/>
                    <a:ext cx="822960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1447920" y="1143000"/>
          <a:ext cx="6400800" cy="55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40080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7:17:25Z</dcterms:created>
  <dc:creator>FullNameHere</dc:creator>
  <dc:description/>
  <dc:language>en-US</dc:language>
  <cp:lastModifiedBy>Гордана Радић</cp:lastModifiedBy>
  <dcterms:modified xsi:type="dcterms:W3CDTF">2016-09-06T07:34:16Z</dcterms:modified>
  <cp:revision>21</cp:revision>
  <dc:subject/>
  <dc:title>Slide 1</dc:title>
</cp:coreProperties>
</file>